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896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880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896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880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533520" y="990720"/>
          <a:ext cx="807696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9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D/A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及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A/D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转换器接口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  <a:hlinkClick r:id="rId1" action="ppaction://hlinksldjump"/>
              </a:rPr>
              <a:t>9.1  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  <a:hlinkClick r:id="rId2" action="ppaction://hlinksldjump"/>
              </a:rPr>
              <a:t>9.2  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  <a:hlinkClick r:id="rId3" action="ppaction://hlinksldjump"/>
              </a:rPr>
              <a:t>D/A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  <a:hlinkClick r:id="rId4" action="ppaction://hlinksldjump"/>
              </a:rPr>
              <a:t>转换器及其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3  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及其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766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9-2-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91520" cy="4289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5638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4  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717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9-2-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2414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极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5968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2.2  MCS-5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D/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的接口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应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用作单极性电压输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用作双极性电压输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用作控制放大器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88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88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88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09480" y="1447920"/>
            <a:ext cx="7924680" cy="4114800"/>
            <a:chOff x="609480" y="1447920"/>
            <a:chExt cx="7924680" cy="4114800"/>
          </a:xfrm>
        </p:grpSpPr>
        <p:grpSp>
          <p:nvGrpSpPr>
            <p:cNvPr id="77" name=""/>
            <p:cNvGrpSpPr/>
            <p:nvPr/>
          </p:nvGrpSpPr>
          <p:grpSpPr>
            <a:xfrm>
              <a:off x="615960" y="1450080"/>
              <a:ext cx="7910640" cy="4109760"/>
              <a:chOff x="615960" y="1450080"/>
              <a:chExt cx="7910640" cy="410976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615960" y="1450080"/>
                <a:ext cx="3060720" cy="632160"/>
                <a:chOff x="615960" y="1450080"/>
                <a:chExt cx="3060720" cy="632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12080" y="1450080"/>
                  <a:ext cx="2868120" cy="63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输入数字量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7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6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5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4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3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1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b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5960" y="1450080"/>
                  <a:ext cx="3060720" cy="63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677040" y="1450080"/>
                <a:ext cx="4849560" cy="316080"/>
                <a:chOff x="3677040" y="1450080"/>
                <a:chExt cx="4849560" cy="3160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773160" y="1450080"/>
                  <a:ext cx="46569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（理想值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677040" y="1450080"/>
                  <a:ext cx="48495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677040" y="1766160"/>
                <a:ext cx="2539440" cy="316080"/>
                <a:chOff x="3677040" y="1766160"/>
                <a:chExt cx="2539440" cy="316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773160" y="176616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677040" y="176616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216840" y="1766160"/>
                <a:ext cx="2309760" cy="316080"/>
                <a:chOff x="6216840" y="1766160"/>
                <a:chExt cx="2309760" cy="316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312960" y="176616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16840" y="176616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15960" y="2082240"/>
                <a:ext cx="3060720" cy="316080"/>
                <a:chOff x="615960" y="2082240"/>
                <a:chExt cx="3060720" cy="316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12080" y="208224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   1   1   1   1   1   1  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15960" y="208224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677040" y="2082240"/>
                <a:ext cx="2539440" cy="316080"/>
                <a:chOff x="3677040" y="2082240"/>
                <a:chExt cx="2539440" cy="316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773160" y="208224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V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-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677040" y="208224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16840" y="2082240"/>
                <a:ext cx="2309760" cy="316080"/>
                <a:chOff x="6216840" y="2082240"/>
                <a:chExt cx="2309760" cy="316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12960" y="208224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-|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|+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16840" y="208224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15960" y="2398320"/>
                <a:ext cx="3060720" cy="316080"/>
                <a:chOff x="615960" y="2398320"/>
                <a:chExt cx="3060720" cy="316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12080" y="239832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15960" y="239832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7040" y="2398320"/>
                <a:ext cx="2539440" cy="316080"/>
                <a:chOff x="3677040" y="2398320"/>
                <a:chExt cx="2539440" cy="3160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773160" y="239832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77040" y="239832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6216840" y="2398320"/>
                <a:ext cx="2309760" cy="316080"/>
                <a:chOff x="6216840" y="2398320"/>
                <a:chExt cx="2309760" cy="3160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312960" y="239832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216840" y="239832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15960" y="2714400"/>
                <a:ext cx="3060720" cy="316080"/>
                <a:chOff x="615960" y="2714400"/>
                <a:chExt cx="3060720" cy="3160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2080" y="271440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   1   0   0   0   0   0   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5960" y="271440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677040" y="2714400"/>
                <a:ext cx="2539440" cy="316080"/>
                <a:chOff x="3677040" y="2714400"/>
                <a:chExt cx="2539440" cy="31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73160" y="271440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V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77040" y="271440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216840" y="2714400"/>
                <a:ext cx="2309760" cy="316080"/>
                <a:chOff x="6216840" y="2714400"/>
                <a:chExt cx="2309760" cy="3160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312960" y="271440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-|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|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16840" y="271440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15960" y="3030480"/>
                <a:ext cx="3060720" cy="316080"/>
                <a:chOff x="615960" y="3030480"/>
                <a:chExt cx="3060720" cy="3160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12080" y="303048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5960" y="303048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677040" y="3030480"/>
                <a:ext cx="2539440" cy="316080"/>
                <a:chOff x="3677040" y="3030480"/>
                <a:chExt cx="2539440" cy="3160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73160" y="303048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677040" y="303048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216840" y="3030480"/>
                <a:ext cx="2309760" cy="316080"/>
                <a:chOff x="6216840" y="3030480"/>
                <a:chExt cx="2309760" cy="316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312960" y="303048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216840" y="303048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15960" y="3346560"/>
                <a:ext cx="3060720" cy="316080"/>
                <a:chOff x="615960" y="3346560"/>
                <a:chExt cx="3060720" cy="316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12080" y="334656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   0   0   0   0   0   0   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15960" y="334656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677040" y="3346560"/>
                <a:ext cx="2539440" cy="316080"/>
                <a:chOff x="3677040" y="3346560"/>
                <a:chExt cx="2539440" cy="3160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773160" y="334656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677040" y="334656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216840" y="3346560"/>
                <a:ext cx="2309760" cy="316080"/>
                <a:chOff x="6216840" y="3346560"/>
                <a:chExt cx="2309760" cy="3160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312960" y="334656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216840" y="334656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15960" y="3663000"/>
                <a:ext cx="3060720" cy="316080"/>
                <a:chOff x="615960" y="3663000"/>
                <a:chExt cx="3060720" cy="3160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2080" y="366300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5960" y="366300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677040" y="3663000"/>
                <a:ext cx="2539440" cy="316080"/>
                <a:chOff x="3677040" y="3663000"/>
                <a:chExt cx="2539440" cy="3160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773160" y="366300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77040" y="366300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216840" y="3663000"/>
                <a:ext cx="2309760" cy="316080"/>
                <a:chOff x="6216840" y="3663000"/>
                <a:chExt cx="2309760" cy="316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312960" y="366300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16840" y="366300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15960" y="3979080"/>
                <a:ext cx="3060720" cy="316080"/>
                <a:chOff x="615960" y="3979080"/>
                <a:chExt cx="3060720" cy="316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2080" y="397908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   1   1   1   1   1   1  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5960" y="397908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677040" y="3979080"/>
                <a:ext cx="2539440" cy="316080"/>
                <a:chOff x="3677040" y="3979080"/>
                <a:chExt cx="2539440" cy="316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773160" y="397908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677040" y="397908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216840" y="3979080"/>
                <a:ext cx="2309760" cy="316080"/>
                <a:chOff x="6216840" y="3979080"/>
                <a:chExt cx="2309760" cy="3160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312960" y="397908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16840" y="397908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15960" y="4295160"/>
                <a:ext cx="3060720" cy="316080"/>
                <a:chOff x="615960" y="4295160"/>
                <a:chExt cx="3060720" cy="3160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2080" y="429516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15960" y="429516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677040" y="4295160"/>
                <a:ext cx="2539440" cy="316080"/>
                <a:chOff x="3677040" y="4295160"/>
                <a:chExt cx="2539440" cy="3160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773160" y="429516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77040" y="429516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216840" y="4295160"/>
                <a:ext cx="2309760" cy="316080"/>
                <a:chOff x="6216840" y="4295160"/>
                <a:chExt cx="2309760" cy="316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312960" y="429516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16840" y="429516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15960" y="4611240"/>
                <a:ext cx="3060720" cy="316080"/>
                <a:chOff x="615960" y="4611240"/>
                <a:chExt cx="3060720" cy="316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12080" y="461124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   0   1   1   1   1   1  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15960" y="461124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677040" y="4611240"/>
                <a:ext cx="2539440" cy="316080"/>
                <a:chOff x="3677040" y="4611240"/>
                <a:chExt cx="2539440" cy="316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73160" y="461124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-|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|/2-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77040" y="461124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216840" y="4611240"/>
                <a:ext cx="2309760" cy="316080"/>
                <a:chOff x="6216840" y="4611240"/>
                <a:chExt cx="2309760" cy="316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312960" y="461124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V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/2+LS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16840" y="461124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15960" y="4927680"/>
                <a:ext cx="3060720" cy="316080"/>
                <a:chOff x="615960" y="4927680"/>
                <a:chExt cx="3060720" cy="3160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12080" y="492768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5960" y="492768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677040" y="4927680"/>
                <a:ext cx="2539440" cy="316080"/>
                <a:chOff x="3677040" y="4927680"/>
                <a:chExt cx="2539440" cy="316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773160" y="492768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677040" y="492768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216840" y="4927680"/>
                <a:ext cx="2309760" cy="316080"/>
                <a:chOff x="6216840" y="4927680"/>
                <a:chExt cx="2309760" cy="316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312960" y="492768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16840" y="492768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15960" y="5243760"/>
                <a:ext cx="3060720" cy="316080"/>
                <a:chOff x="615960" y="5243760"/>
                <a:chExt cx="3060720" cy="316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12080" y="5243760"/>
                  <a:ext cx="286812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   0   0   0   0   0   0   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5960" y="5243760"/>
                  <a:ext cx="306072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677040" y="5243760"/>
                <a:ext cx="2539440" cy="316080"/>
                <a:chOff x="3677040" y="5243760"/>
                <a:chExt cx="2539440" cy="31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773160" y="5243760"/>
                  <a:ext cx="23472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-|V</a:t>
                  </a:r>
                  <a:r>
                    <a:rPr b="0" lang="zh-CN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677040" y="5243760"/>
                  <a:ext cx="253944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216840" y="5243760"/>
                <a:ext cx="2309760" cy="316080"/>
                <a:chOff x="6216840" y="5243760"/>
                <a:chExt cx="2309760" cy="316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2960" y="5243760"/>
                  <a:ext cx="21171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V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RE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216840" y="5243760"/>
                  <a:ext cx="2309760" cy="31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609480" y="1447920"/>
              <a:ext cx="792468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37160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9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双极性输出电压与输入数字量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5764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t9-2-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338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362320" y="5638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极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另一种接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65760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9-2-6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4343400" cy="4095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95480" y="914400"/>
            <a:ext cx="91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放大器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时，有三种连接方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通方式、单缓冲方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8~9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双缓冲方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0512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t9-2-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3170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3372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缓冲方式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955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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00200" y="685800"/>
            <a:ext cx="5595840" cy="4621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43200" y="5638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产生的波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75256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t9-2-9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5324760" cy="4167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075720" y="762120"/>
            <a:ext cx="1468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0 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两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口（双缓冲方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1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9-1-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24840" cy="314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8006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和被控实体间的接口示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644004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12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内部结构和原理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12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383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t9-11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324480" cy="3613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1  DAC120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25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t9-2-1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39000" cy="3211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13372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2 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12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5968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3  A/D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换器及其接口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3.1  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设计要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积分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工作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3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逐次逼近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4004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一个模拟信号转换成数字信号所要求的基本部件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多路转换器与信号调节电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持电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道控制电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3.1  A/D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接口设计要点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选择合适的系统采样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换的孔径误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合理选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换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968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3.2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双积分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A/D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换器工作原理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双积分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换器工作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积分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是一种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技术。首先将模拟电压转换成积分时间，然后用数字脉冲计时方法转换成计数脉冲数，最后将此代表模拟输入电压大小的脉冲数转换成二进制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输出。因此，双积分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转换时间较长，一般要大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出了微机控制的双积分电路原理图。其工作原理可由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工作波型图予以说明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38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t9-3-1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308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5740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积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路原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657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9-3-2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3465720" cy="4800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27000" y="1600200"/>
            <a:ext cx="911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点输出波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92504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144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片机的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t9-1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105160" cy="4106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89120" y="91440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5  MC144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连接的接口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2  D/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换器及其接口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2.1  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2.2  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644004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1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片机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7176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t9-3-4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5011560" cy="5181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571440" y="457200"/>
            <a:ext cx="91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6   ICL71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口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4796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t9-3-5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4805280" cy="609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45400" y="1143000"/>
            <a:ext cx="546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7  ICL71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时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5968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3.3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逐次逼近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A/D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换器接口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逐次逼近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本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289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t9-3-6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2506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5120" y="5257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次逼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电路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776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t9-3-7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5757840" cy="4551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089120" y="609480"/>
            <a:ext cx="911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位逐次逼近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792504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C0808/08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片机的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241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9-20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6248160" cy="4260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317720" y="762120"/>
            <a:ext cx="911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0  0808/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7766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9-3-9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280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300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1  0808/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时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792468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574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片机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30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t9-3-10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095880" cy="3921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05740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2  AD57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电路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0" y="1523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  AD57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控制真值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38080" y="2362320"/>
          <a:ext cx="745344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45344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766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t9-2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67400" cy="282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38080" y="4114800"/>
            <a:ext cx="6934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启动与转换           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转换结果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3  AD57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时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838080" y="1143000"/>
            <a:ext cx="7695720" cy="4419360"/>
            <a:chOff x="838080" y="1143000"/>
            <a:chExt cx="7695720" cy="4419360"/>
          </a:xfrm>
        </p:grpSpPr>
        <p:sp>
          <p:nvSpPr>
            <p:cNvPr id="271" name=""/>
            <p:cNvSpPr/>
            <p:nvPr/>
          </p:nvSpPr>
          <p:spPr>
            <a:xfrm>
              <a:off x="6106680" y="1644840"/>
              <a:ext cx="2427120" cy="316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61120" y="2800080"/>
              <a:ext cx="14979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10000" y="2147040"/>
              <a:ext cx="137196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POFFOF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10000" y="4105800"/>
              <a:ext cx="1497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040280" y="2398320"/>
              <a:ext cx="20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58920" y="2297880"/>
              <a:ext cx="98100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56520" y="239832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3560" y="2900520"/>
              <a:ext cx="206640" cy="60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486400" y="3051360"/>
              <a:ext cx="6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89280" y="4357080"/>
              <a:ext cx="62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83080" y="3302280"/>
              <a:ext cx="206640" cy="70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400" y="305136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86400" y="4005360"/>
              <a:ext cx="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065920" y="3402720"/>
              <a:ext cx="88560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6520" y="355356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0240" y="3804480"/>
              <a:ext cx="41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232360" y="2398320"/>
              <a:ext cx="8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4240" y="2097000"/>
              <a:ext cx="258120" cy="60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077200" y="1745280"/>
              <a:ext cx="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77200" y="26996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6080" y="1745280"/>
              <a:ext cx="10296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6080" y="3101400"/>
              <a:ext cx="10296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000" y="1143000"/>
              <a:ext cx="19108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5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02480" y="1293120"/>
              <a:ext cx="12909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+1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06160" y="3051360"/>
              <a:ext cx="1290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-1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8080" y="2197440"/>
              <a:ext cx="1290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10760" y="1795680"/>
              <a:ext cx="1290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8840" y="2950920"/>
              <a:ext cx="877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8240" y="1996560"/>
              <a:ext cx="5680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98400" y="3842640"/>
              <a:ext cx="8265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8240" y="2599200"/>
              <a:ext cx="516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44520" y="3904920"/>
              <a:ext cx="568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6200" y="5060160"/>
              <a:ext cx="723132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43828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4  AD57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极性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5968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9.2.1  D/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换器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1" name="T9-2-1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161480" cy="256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0" y="5334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简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642760"/>
            <a:ext cx="715176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endshow"/>
          </p:cNvPr>
          <p:cNvSpPr/>
          <p:nvPr/>
        </p:nvSpPr>
        <p:spPr>
          <a:xfrm>
            <a:off x="5562720" y="64400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4004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系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B×V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常量，由参考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R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定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数字量，常为一个二进制数。数字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位数通常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等，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芯片型号决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时的通式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 bn-1 bn-2…b1 b0= bn-1×2n-1+ bn-2×2n-2+…+ b1×21+ b0×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n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高位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最低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D/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转换器的原理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的原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输入数字量中每位都按其权值分别转换成模拟量，并通过运算放大器求和相加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根据克希荷夫定律，如下关系成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=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=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=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=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671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9-2-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086600" cy="411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5638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3  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电阻网络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D/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转换器的性能指标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辨率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Resolut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辨率是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能分辨的最小输出模拟增量，取决于输入数字量的二进制位数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转换精度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nversion  Accurac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满量程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际模拟输出值和理论值的接近程度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偏移量误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ffset  Err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偏移量误差是指输入数字量为零时，输出模拟量对零的偏移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线性度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Linearit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度是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际转换特性曲线和理想直线之间的最大偏移差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DAC0832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A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部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由三部分电路组成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输入寄存器”、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”、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电路”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电阻网络和电子开关组成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引脚功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引脚，双列直插式封装。引脚连接和命名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数字量输入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）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控制线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）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出线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）；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电源线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8:02:50Z</dcterms:created>
  <dc:creator>liwu</dc:creator>
  <dc:description/>
  <dc:language>en-US</dc:language>
  <cp:lastModifiedBy>新人电脑</cp:lastModifiedBy>
  <dcterms:modified xsi:type="dcterms:W3CDTF">2002-06-11T13:57:09Z</dcterms:modified>
  <cp:revision>16</cp:revision>
  <dc:subject/>
  <dc:title>第9章  MCS-51与D/A及A/D转换器接口 </dc:title>
</cp:coreProperties>
</file>